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png" ContentType="image/png"/>
  <Override PartName="/ppt/media/image9.png" ContentType="image/png"/>
  <Override PartName="/ppt/media/image8.gif" ContentType="image/gi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DF7-26FC-4525-B1C8-3FE77FFA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5C9-4977-43E0-9D0D-CCDA6E3C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0F9-1D00-4868-BA61-CEDF57F1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1FB-56D5-41A8-B537-9331781D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9B6-3174-4C09-BF7E-5363C452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24A-BFD2-47D5-8306-25EBC52F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82F-4925-4D98-AED4-C5949A65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173-59FD-4546-9B2B-1A78050F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763-4005-4770-9548-4B51F392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BF4-254C-44E3-967C-7631E106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D91-D127-4F90-ADE6-66ACCF77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BD5-64A4-490C-9C38-BD8CCC1E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E4B7-3A48-4B9B-A8B7-86B4B5E0B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9880" y="133992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6960" y="2203560"/>
            <a:ext cx="6805800" cy="427500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2960" y="2492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2960" y="2492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/>
          <p:nvPr/>
        </p:nvCxnSpPr>
        <p:spPr>
          <a:xfrm>
            <a:off x="669600" y="4608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" name=""/>
          <p:cNvSpPr/>
          <p:nvPr/>
        </p:nvSpPr>
        <p:spPr>
          <a:xfrm>
            <a:off x="539640" y="1125360"/>
            <a:ext cx="6620040" cy="10242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96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288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0960" y="211140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116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95480" y="211140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5160" y="211140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144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344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89200" y="211140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2708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9536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112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17920" y="211140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8764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95720" y="211140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360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4168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188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764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25880" y="211140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33960" y="211140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95960" y="211140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84600" y="211140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21400" y="211140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2912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91120" y="211140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75440" y="211140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332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22840" y="211140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0536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528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960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1600" y="211140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2932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02480" y="2125800"/>
            <a:ext cx="196920" cy="25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064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89880" y="211140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99400" y="211140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70760" y="2125800"/>
            <a:ext cx="196920" cy="25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073400" y="4135320"/>
            <a:ext cx="590760" cy="1032120"/>
            <a:chOff x="4073400" y="4135320"/>
            <a:chExt cx="590760" cy="1032120"/>
          </a:xfrm>
        </p:grpSpPr>
        <p:sp>
          <p:nvSpPr>
            <p:cNvPr id="90" name=""/>
            <p:cNvSpPr/>
            <p:nvPr/>
          </p:nvSpPr>
          <p:spPr>
            <a:xfrm>
              <a:off x="4073400" y="4291560"/>
              <a:ext cx="590760" cy="87588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880"/>
                <a:gd name="textAreaBottom" fmla="*/ 857520 h 875880"/>
              </a:gdLst>
              <a:ahLst/>
              <a:rect l="textAreaLeft" t="textAreaTop" r="textAreaRight" b="textAreaBottom"/>
              <a:pathLst>
                <a:path w="21600" h="32019">
                  <a:moveTo>
                    <a:pt x="2325" y="0"/>
                  </a:moveTo>
                  <a:arcTo wR="2325" hR="2325" stAng="16200000" swAng="-5400000"/>
                  <a:lnTo>
                    <a:pt x="0" y="29694"/>
                  </a:lnTo>
                  <a:arcTo wR="2325" hR="2325" stAng="10800000" swAng="-5400000"/>
                  <a:lnTo>
                    <a:pt x="19275" y="32019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073400" y="4135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35320" y="443844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30640" y="4674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30640" y="491652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37640" y="4479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37640" y="4717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37640" y="49496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373440" y="3951360"/>
            <a:ext cx="525600" cy="1180800"/>
            <a:chOff x="6373440" y="3951360"/>
            <a:chExt cx="525600" cy="1180800"/>
          </a:xfrm>
        </p:grpSpPr>
        <p:sp>
          <p:nvSpPr>
            <p:cNvPr id="99" name=""/>
            <p:cNvSpPr/>
            <p:nvPr/>
          </p:nvSpPr>
          <p:spPr>
            <a:xfrm rot="10800000">
              <a:off x="6373440" y="448812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73800" y="470376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62360" y="395136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73800" y="481068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10480" y="481068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462360" y="481068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723000" y="481068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8760" y="406008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23720" y="406008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488280" y="4043160"/>
            <a:ext cx="473040" cy="565200"/>
            <a:chOff x="6488280" y="4043160"/>
            <a:chExt cx="473040" cy="565200"/>
          </a:xfrm>
        </p:grpSpPr>
        <p:sp>
          <p:nvSpPr>
            <p:cNvPr id="109" name=""/>
            <p:cNvSpPr/>
            <p:nvPr/>
          </p:nvSpPr>
          <p:spPr>
            <a:xfrm rot="10800000">
              <a:off x="6488280" y="404316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72960" y="428940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6680520" y="4480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876240" y="2971800"/>
            <a:ext cx="1373400" cy="2914560"/>
            <a:chOff x="876240" y="2971800"/>
            <a:chExt cx="1373400" cy="2914560"/>
          </a:xfrm>
        </p:grpSpPr>
        <p:sp>
          <p:nvSpPr>
            <p:cNvPr id="113" name=""/>
            <p:cNvSpPr/>
            <p:nvPr/>
          </p:nvSpPr>
          <p:spPr>
            <a:xfrm>
              <a:off x="876240" y="3042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8400" y="3056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8400" y="5044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3080" y="5044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76240" y="4845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76240" y="4235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76240" y="3638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95360" y="5375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49520" y="5384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76240" y="3042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57480" y="3042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76240" y="2971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68400" y="3724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95480" y="3800520"/>
            <a:ext cx="139680" cy="42048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480"/>
              <a:gd name="textAreaBottom" fmla="*/ 416520 h 420480"/>
            </a:gdLst>
            <a:ahLst/>
            <a:rect l="textAreaLeft" t="textAreaTop" r="textAreaRight" b="textAreaBottom"/>
            <a:pathLst>
              <a:path w="21600" h="64911">
                <a:moveTo>
                  <a:pt x="2250" y="0"/>
                </a:moveTo>
                <a:arcTo wR="2250" hR="2250" stAng="16200000" swAng="-5400000"/>
                <a:lnTo>
                  <a:pt x="0" y="62661"/>
                </a:lnTo>
                <a:arcTo wR="2250" hR="2250" stAng="10800000" swAng="-5400000"/>
                <a:lnTo>
                  <a:pt x="19350" y="6491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35160" y="3724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3040" y="3710160"/>
            <a:ext cx="138240" cy="51084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0840"/>
              <a:gd name="textAreaBottom" fmla="*/ 506880 h 510840"/>
            </a:gdLst>
            <a:ahLst/>
            <a:rect l="textAreaLeft" t="textAreaTop" r="textAreaRight" b="textAreaBottom"/>
            <a:pathLst>
              <a:path w="21600" h="79668">
                <a:moveTo>
                  <a:pt x="2250" y="0"/>
                </a:moveTo>
                <a:arcTo wR="2250" hR="2250" stAng="16200000" swAng="-5400000"/>
                <a:lnTo>
                  <a:pt x="0" y="77418"/>
                </a:lnTo>
                <a:arcTo wR="2250" hR="2250" stAng="10800000" swAng="-5400000"/>
                <a:lnTo>
                  <a:pt x="19350" y="79668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232240" y="4322880"/>
            <a:ext cx="601920" cy="77292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4848120" y="4129200"/>
            <a:ext cx="1277640" cy="1009080"/>
            <a:chOff x="4848120" y="4129200"/>
            <a:chExt cx="1277640" cy="1009080"/>
          </a:xfrm>
        </p:grpSpPr>
        <p:sp>
          <p:nvSpPr>
            <p:cNvPr id="131" name=""/>
            <p:cNvSpPr/>
            <p:nvPr/>
          </p:nvSpPr>
          <p:spPr>
            <a:xfrm>
              <a:off x="4859640" y="4437720"/>
              <a:ext cx="103680" cy="70056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560"/>
                <a:gd name="textAreaBottom" fmla="*/ 697680 h 700560"/>
              </a:gdLst>
              <a:ahLst/>
              <a:rect l="textAreaLeft" t="textAreaTop" r="textAreaRight" b="textAreaBottom"/>
              <a:pathLst>
                <a:path w="21600" h="145520">
                  <a:moveTo>
                    <a:pt x="2250" y="0"/>
                  </a:moveTo>
                  <a:arcTo wR="2250" hR="2250" stAng="16200000" swAng="-5400000"/>
                  <a:lnTo>
                    <a:pt x="0" y="143270"/>
                  </a:lnTo>
                  <a:arcTo wR="2250" hR="2250" stAng="10800000" swAng="-5400000"/>
                  <a:lnTo>
                    <a:pt x="19350" y="14552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22080" y="4437720"/>
              <a:ext cx="103680" cy="70056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560"/>
                <a:gd name="textAreaBottom" fmla="*/ 697680 h 700560"/>
              </a:gdLst>
              <a:ahLst/>
              <a:rect l="textAreaLeft" t="textAreaTop" r="textAreaRight" b="textAreaBottom"/>
              <a:pathLst>
                <a:path w="21600" h="145520">
                  <a:moveTo>
                    <a:pt x="2250" y="0"/>
                  </a:moveTo>
                  <a:arcTo wR="2250" hR="2250" stAng="16200000" swAng="-5400000"/>
                  <a:lnTo>
                    <a:pt x="0" y="143270"/>
                  </a:lnTo>
                  <a:arcTo wR="2250" hR="2250" stAng="10800000" swAng="-5400000"/>
                  <a:lnTo>
                    <a:pt x="19350" y="14552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56200" y="4152600"/>
              <a:ext cx="103680" cy="64476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4760"/>
                <a:gd name="textAreaBottom" fmla="*/ 641880 h 644760"/>
              </a:gdLst>
              <a:ahLst/>
              <a:rect l="textAreaLeft" t="textAreaTop" r="textAreaRight" b="textAreaBottom"/>
              <a:pathLst>
                <a:path w="21600" h="133935">
                  <a:moveTo>
                    <a:pt x="2250" y="0"/>
                  </a:moveTo>
                  <a:arcTo wR="2250" hR="2250" stAng="16200000" swAng="-5400000"/>
                  <a:lnTo>
                    <a:pt x="0" y="131685"/>
                  </a:lnTo>
                  <a:arcTo wR="2250" hR="2250" stAng="10800000" swAng="-5400000"/>
                  <a:lnTo>
                    <a:pt x="19350" y="133935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41720" y="4129200"/>
              <a:ext cx="103680" cy="64476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4760"/>
                <a:gd name="textAreaBottom" fmla="*/ 641880 h 644760"/>
              </a:gdLst>
              <a:ahLst/>
              <a:rect l="textAreaLeft" t="textAreaTop" r="textAreaRight" b="textAreaBottom"/>
              <a:pathLst>
                <a:path w="21600" h="133935">
                  <a:moveTo>
                    <a:pt x="2250" y="0"/>
                  </a:moveTo>
                  <a:arcTo wR="2250" hR="2250" stAng="16200000" swAng="-5400000"/>
                  <a:lnTo>
                    <a:pt x="0" y="131685"/>
                  </a:lnTo>
                  <a:arcTo wR="2250" hR="2250" stAng="10800000" swAng="-5400000"/>
                  <a:lnTo>
                    <a:pt x="19350" y="133935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9640" y="4347720"/>
              <a:ext cx="1266120" cy="8964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848120" y="413460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874960" y="3021120"/>
            <a:ext cx="593640" cy="695160"/>
            <a:chOff x="2874960" y="3021120"/>
            <a:chExt cx="593640" cy="695160"/>
          </a:xfrm>
        </p:grpSpPr>
        <p:sp>
          <p:nvSpPr>
            <p:cNvPr id="138" name=""/>
            <p:cNvSpPr/>
            <p:nvPr/>
          </p:nvSpPr>
          <p:spPr>
            <a:xfrm>
              <a:off x="2874960" y="3021120"/>
              <a:ext cx="593640" cy="69516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160"/>
                <a:gd name="textAreaBottom" fmla="*/ 666360 h 695160"/>
              </a:gdLst>
              <a:ahLst/>
              <a:rect l="textAreaLeft" t="textAreaTop" r="textAreaRight" b="textAreaBottom"/>
              <a:pathLst>
                <a:path w="21600" h="25292">
                  <a:moveTo>
                    <a:pt x="3600" y="0"/>
                  </a:moveTo>
                  <a:arcTo wR="3600" hR="3600" stAng="16200000" swAng="-5400000"/>
                  <a:lnTo>
                    <a:pt x="0" y="21692"/>
                  </a:lnTo>
                  <a:arcTo wR="3600" hR="3600" stAng="10800000" swAng="-5400000"/>
                  <a:lnTo>
                    <a:pt x="18000" y="252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50920" y="310608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5"/>
            <a:stretch/>
          </p:blipFill>
          <p:spPr>
            <a:xfrm>
              <a:off x="2996640" y="3182760"/>
              <a:ext cx="344160" cy="34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1881360" y="3129120"/>
            <a:ext cx="137880" cy="51084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0840"/>
              <a:gd name="textAreaBottom" fmla="*/ 506880 h 510840"/>
            </a:gdLst>
            <a:ahLst/>
            <a:rect l="textAreaLeft" t="textAreaTop" r="textAreaRight" b="textAreaBottom"/>
            <a:pathLst>
              <a:path w="21600" h="79875">
                <a:moveTo>
                  <a:pt x="2250" y="0"/>
                </a:moveTo>
                <a:arcTo wR="2250" hR="2250" stAng="16200000" swAng="-5400000"/>
                <a:lnTo>
                  <a:pt x="0" y="77625"/>
                </a:lnTo>
                <a:arcTo wR="2250" hR="2250" stAng="10800000" swAng="-5400000"/>
                <a:lnTo>
                  <a:pt x="19350" y="79875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9240" y="311472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 rot="15987000">
            <a:off x="2524680" y="5308920"/>
            <a:ext cx="878040" cy="885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 rot="9263400">
            <a:off x="3160800" y="5313240"/>
            <a:ext cx="676080" cy="741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4145040" y="3917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 rot="772200">
            <a:off x="3161880" y="3355560"/>
            <a:ext cx="814320" cy="123516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2411280" y="3965400"/>
            <a:ext cx="1557360" cy="1931760"/>
            <a:chOff x="2411280" y="3965400"/>
            <a:chExt cx="1557360" cy="1931760"/>
          </a:xfrm>
        </p:grpSpPr>
        <p:sp>
          <p:nvSpPr>
            <p:cNvPr id="148" name=""/>
            <p:cNvSpPr/>
            <p:nvPr/>
          </p:nvSpPr>
          <p:spPr>
            <a:xfrm rot="16200000">
              <a:off x="2855520" y="3717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800000">
              <a:off x="2445840" y="4645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2843640" y="4607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11280" y="5029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4960" y="5033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07480" y="4018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3320" y="4021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4273560"/>
            <a:ext cx="610920" cy="5954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5033880" y="5405400"/>
            <a:ext cx="1225440" cy="537840"/>
            <a:chOff x="5033880" y="5405400"/>
            <a:chExt cx="1225440" cy="537840"/>
          </a:xfrm>
        </p:grpSpPr>
        <p:sp>
          <p:nvSpPr>
            <p:cNvPr id="157" name=""/>
            <p:cNvSpPr/>
            <p:nvPr/>
          </p:nvSpPr>
          <p:spPr>
            <a:xfrm>
              <a:off x="5211000" y="5405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33880" y="5405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82200" y="5405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12440" y="5405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35320" y="5405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84360" y="5405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 rot="720600">
            <a:off x="1372680" y="3384360"/>
            <a:ext cx="457200" cy="309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>
            <a:off x="1101600" y="4381560"/>
            <a:ext cx="282600" cy="428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 rot="20594400">
            <a:off x="4075200" y="5294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0"/>
          <a:stretch/>
        </p:blipFill>
        <p:spPr>
          <a:xfrm>
            <a:off x="1019160" y="3090960"/>
            <a:ext cx="365040" cy="520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41320" y="4403880"/>
            <a:ext cx="140040" cy="42048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480"/>
              <a:gd name="textAreaBottom" fmla="*/ 416520 h 420480"/>
            </a:gdLst>
            <a:ahLst/>
            <a:rect l="textAreaLeft" t="textAreaTop" r="textAreaRight" b="textAreaBottom"/>
            <a:pathLst>
              <a:path w="21600" h="64745">
                <a:moveTo>
                  <a:pt x="2250" y="0"/>
                </a:moveTo>
                <a:arcTo wR="2250" hR="2250" stAng="16200000" swAng="-5400000"/>
                <a:lnTo>
                  <a:pt x="0" y="62495"/>
                </a:lnTo>
                <a:arcTo wR="2250" hR="2250" stAng="10800000" swAng="-5400000"/>
                <a:lnTo>
                  <a:pt x="19350" y="64745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81360" y="43275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19240" y="4313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1"/>
          <a:stretch/>
        </p:blipFill>
        <p:spPr>
          <a:xfrm>
            <a:off x="5106960" y="2924280"/>
            <a:ext cx="855720" cy="749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98600" y="133992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173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78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79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84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85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90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 rot="20512200">
            <a:off x="7943760" y="4160520"/>
            <a:ext cx="432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 rot="1245000">
            <a:off x="7719840" y="5573880"/>
            <a:ext cx="7923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260280"/>
            <a:ext cx="684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Forte"/>
              </a:rPr>
              <a:t>Sally's Messy Room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Forte"/>
              <a:ea typeface="Forte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195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200" name=""/>
          <p:cNvSpPr txBox="1"/>
          <p:nvPr/>
        </p:nvSpPr>
        <p:spPr>
          <a:xfrm rot="20512200">
            <a:off x="7596000" y="980640"/>
            <a:ext cx="941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ehi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843280" y="5229360"/>
            <a:ext cx="7207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LA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9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0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1573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1582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1592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1596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1613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1614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1621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3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4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630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1631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8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1640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6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1647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1648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1649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3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1656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0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661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662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6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667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668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2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673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674" name=""/>
          <p:cNvSpPr txBox="1"/>
          <p:nvPr/>
        </p:nvSpPr>
        <p:spPr>
          <a:xfrm rot="20512200">
            <a:off x="7943760" y="4160520"/>
            <a:ext cx="432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675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1677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1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682" name=""/>
          <p:cNvSpPr txBox="1"/>
          <p:nvPr/>
        </p:nvSpPr>
        <p:spPr>
          <a:xfrm rot="20512200">
            <a:off x="7740720" y="1052280"/>
            <a:ext cx="718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468360" y="5950080"/>
            <a:ext cx="64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radio is _____ the bed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3851280" y="6021360"/>
            <a:ext cx="431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1686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688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restart="whenNotActive" nodeType="interactiveSeq" fill="hold">
                <p:stCondLst>
                  <p:cond evt="onClick">
                    <p:tgtEl>
                      <p:spTgt spid="168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68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675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675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674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67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673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673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4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5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1738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1747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1757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1761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3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7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1778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1779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1786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8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9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1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1792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1793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1794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795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1796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3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804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1805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1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1812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1813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1814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1815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1819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1821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5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826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827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1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832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833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7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838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839" name=""/>
          <p:cNvSpPr txBox="1"/>
          <p:nvPr/>
        </p:nvSpPr>
        <p:spPr>
          <a:xfrm rot="20512200">
            <a:off x="7956720" y="4149360"/>
            <a:ext cx="431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840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1842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6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847" name=""/>
          <p:cNvSpPr txBox="1"/>
          <p:nvPr/>
        </p:nvSpPr>
        <p:spPr>
          <a:xfrm rot="20512200">
            <a:off x="7740720" y="1052280"/>
            <a:ext cx="718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468360" y="5950080"/>
            <a:ext cx="64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t-shirts are _______ the bed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3995640" y="6021360"/>
            <a:ext cx="100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850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1851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853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1847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847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840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840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3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0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839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839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838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838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9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0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1903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1912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1922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1926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2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1943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1944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0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1951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3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4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6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1957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1958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1959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960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1961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8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969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1970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6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1977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1978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1979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1980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3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1984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1986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0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991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992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6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997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998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2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2003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04" name=""/>
          <p:cNvSpPr txBox="1"/>
          <p:nvPr/>
        </p:nvSpPr>
        <p:spPr>
          <a:xfrm rot="20512200">
            <a:off x="7596000" y="3933720"/>
            <a:ext cx="9302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 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05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2006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2007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1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2012" name=""/>
          <p:cNvSpPr txBox="1"/>
          <p:nvPr/>
        </p:nvSpPr>
        <p:spPr>
          <a:xfrm rot="20512200">
            <a:off x="7554960" y="836640"/>
            <a:ext cx="95724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 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13" name=""/>
          <p:cNvSpPr txBox="1"/>
          <p:nvPr/>
        </p:nvSpPr>
        <p:spPr>
          <a:xfrm>
            <a:off x="250920" y="5950080"/>
            <a:ext cx="705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bookcase is _______ of the bed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014" name=""/>
          <p:cNvSpPr txBox="1"/>
          <p:nvPr/>
        </p:nvSpPr>
        <p:spPr>
          <a:xfrm>
            <a:off x="3419640" y="6021360"/>
            <a:ext cx="1585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on the lef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2015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2016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018" name=""/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 txBox="1"/>
          <p:nvPr/>
        </p:nvSpPr>
        <p:spPr>
          <a:xfrm rot="20512200">
            <a:off x="7884720" y="4294080"/>
            <a:ext cx="712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ef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20" name=""/>
          <p:cNvSpPr txBox="1"/>
          <p:nvPr/>
        </p:nvSpPr>
        <p:spPr>
          <a:xfrm rot="20512200">
            <a:off x="7812000" y="1197000"/>
            <a:ext cx="73980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igh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012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012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005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005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004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004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4" dur="1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003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003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2020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2020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251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260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270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274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292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299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309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318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334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339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340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4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345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346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0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351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52" name=""/>
          <p:cNvSpPr txBox="1"/>
          <p:nvPr/>
        </p:nvSpPr>
        <p:spPr>
          <a:xfrm rot="20512200">
            <a:off x="7943760" y="4160520"/>
            <a:ext cx="432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53" name=""/>
          <p:cNvSpPr txBox="1"/>
          <p:nvPr/>
        </p:nvSpPr>
        <p:spPr>
          <a:xfrm rot="1072200">
            <a:off x="7668720" y="5575320"/>
            <a:ext cx="86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etwe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355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9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360" name=""/>
          <p:cNvSpPr txBox="1"/>
          <p:nvPr/>
        </p:nvSpPr>
        <p:spPr>
          <a:xfrm rot="20512200">
            <a:off x="7596000" y="980640"/>
            <a:ext cx="941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ehi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360" y="5950080"/>
            <a:ext cx="6119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umbrella is _______ the bed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635280" y="5924520"/>
            <a:ext cx="100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behi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364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416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425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435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439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456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457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464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7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473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474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483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499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504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505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9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510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511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5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516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17" name=""/>
          <p:cNvSpPr txBox="1"/>
          <p:nvPr/>
        </p:nvSpPr>
        <p:spPr>
          <a:xfrm rot="20512200">
            <a:off x="7943760" y="4160520"/>
            <a:ext cx="432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18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520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4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525" name=""/>
          <p:cNvSpPr txBox="1"/>
          <p:nvPr/>
        </p:nvSpPr>
        <p:spPr>
          <a:xfrm rot="20512200">
            <a:off x="7740720" y="1052280"/>
            <a:ext cx="718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68360" y="5950080"/>
            <a:ext cx="64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shoes are _____ the bedside table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132000" y="6093000"/>
            <a:ext cx="432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529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581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590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600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604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621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622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629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639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647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648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4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664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8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669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670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4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675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676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0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681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82" name=""/>
          <p:cNvSpPr txBox="1"/>
          <p:nvPr/>
        </p:nvSpPr>
        <p:spPr>
          <a:xfrm rot="20512200">
            <a:off x="7956720" y="4149360"/>
            <a:ext cx="431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83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685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690" name=""/>
          <p:cNvSpPr txBox="1"/>
          <p:nvPr/>
        </p:nvSpPr>
        <p:spPr>
          <a:xfrm rot="20512200">
            <a:off x="7740720" y="1052280"/>
            <a:ext cx="718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68360" y="5950080"/>
            <a:ext cx="64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computer is _______ the desk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780000" y="5950080"/>
            <a:ext cx="100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694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3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746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755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765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769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786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787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794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7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803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804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1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812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813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9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829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3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834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835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9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840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841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5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846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47" name=""/>
          <p:cNvSpPr txBox="1"/>
          <p:nvPr/>
        </p:nvSpPr>
        <p:spPr>
          <a:xfrm rot="20512200">
            <a:off x="7956720" y="4149360"/>
            <a:ext cx="431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48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850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4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855" name=""/>
          <p:cNvSpPr txBox="1"/>
          <p:nvPr/>
        </p:nvSpPr>
        <p:spPr>
          <a:xfrm rot="20512200">
            <a:off x="7740720" y="1052280"/>
            <a:ext cx="718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68360" y="5950080"/>
            <a:ext cx="64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globe is _______ the bookcase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346560" y="5950080"/>
            <a:ext cx="288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859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861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85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85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911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920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930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934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951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952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959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1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2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968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969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6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977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978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4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994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8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999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000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4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005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006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011" name=""/>
          <p:cNvSpPr txBox="1"/>
          <p:nvPr/>
        </p:nvSpPr>
        <p:spPr>
          <a:xfrm rot="1245000">
            <a:off x="7648200" y="2489040"/>
            <a:ext cx="9493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 fron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12" name=""/>
          <p:cNvSpPr txBox="1"/>
          <p:nvPr/>
        </p:nvSpPr>
        <p:spPr>
          <a:xfrm rot="20512200">
            <a:off x="7943760" y="4160520"/>
            <a:ext cx="432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13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ehi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1015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020" name=""/>
          <p:cNvSpPr txBox="1"/>
          <p:nvPr/>
        </p:nvSpPr>
        <p:spPr>
          <a:xfrm rot="20512200">
            <a:off x="7596000" y="980640"/>
            <a:ext cx="941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etwe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24000" y="5950080"/>
            <a:ext cx="67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glasses are _______ the books and the globe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2627280" y="5950080"/>
            <a:ext cx="100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betwe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1024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026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02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02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013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013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01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01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01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01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2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3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1076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1085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1095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1099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1116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1117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1124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6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7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133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1134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1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142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1143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9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1153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1159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3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164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165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9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170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171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5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176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77" name=""/>
          <p:cNvSpPr txBox="1"/>
          <p:nvPr/>
        </p:nvSpPr>
        <p:spPr>
          <a:xfrm rot="20512200">
            <a:off x="7667280" y="4160880"/>
            <a:ext cx="9302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bov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78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1180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4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185" name=""/>
          <p:cNvSpPr txBox="1"/>
          <p:nvPr/>
        </p:nvSpPr>
        <p:spPr>
          <a:xfrm rot="20512200">
            <a:off x="7740720" y="1052280"/>
            <a:ext cx="718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468360" y="5950080"/>
            <a:ext cx="64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map is _____ the desk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492360" y="6093000"/>
            <a:ext cx="10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abov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1189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191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185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185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178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178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7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17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176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176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7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8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1241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1250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1260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1264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1281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1282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1289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2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1295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1296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298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1299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6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307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1308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4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1322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1324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8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329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330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4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335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336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0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341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42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343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1344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8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349" name=""/>
          <p:cNvSpPr txBox="1"/>
          <p:nvPr/>
        </p:nvSpPr>
        <p:spPr>
          <a:xfrm rot="20512200">
            <a:off x="7596360" y="3933720"/>
            <a:ext cx="957240" cy="4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 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250920" y="5950080"/>
            <a:ext cx="705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bedside table is _______ of the bed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3778200" y="6021360"/>
            <a:ext cx="158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on the righ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1353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355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 txBox="1"/>
          <p:nvPr/>
        </p:nvSpPr>
        <p:spPr>
          <a:xfrm rot="20512200">
            <a:off x="7884720" y="4376520"/>
            <a:ext cx="6476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ef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57" name=""/>
          <p:cNvSpPr txBox="1"/>
          <p:nvPr/>
        </p:nvSpPr>
        <p:spPr>
          <a:xfrm rot="20512200">
            <a:off x="7529040" y="836640"/>
            <a:ext cx="9302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 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58" name=""/>
          <p:cNvSpPr txBox="1"/>
          <p:nvPr/>
        </p:nvSpPr>
        <p:spPr>
          <a:xfrm rot="20512200">
            <a:off x="7746480" y="1217160"/>
            <a:ext cx="8575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igh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1349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349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342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342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357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341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341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356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356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4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65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1408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1417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1427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1431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3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7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1448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1449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1456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8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9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1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1463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1464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465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1466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3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474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1475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1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1482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1483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1484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1485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8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1489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1491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5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496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497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1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502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503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7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508" name=""/>
          <p:cNvSpPr txBox="1"/>
          <p:nvPr/>
        </p:nvSpPr>
        <p:spPr>
          <a:xfrm rot="1245000">
            <a:off x="7642080" y="2475000"/>
            <a:ext cx="88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 fron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09" name=""/>
          <p:cNvSpPr txBox="1"/>
          <p:nvPr/>
        </p:nvSpPr>
        <p:spPr>
          <a:xfrm rot="20512200">
            <a:off x="7956720" y="4149360"/>
            <a:ext cx="431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10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1512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6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517" name=""/>
          <p:cNvSpPr txBox="1"/>
          <p:nvPr/>
        </p:nvSpPr>
        <p:spPr>
          <a:xfrm rot="20512200">
            <a:off x="7594560" y="1052640"/>
            <a:ext cx="100476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ehi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250920" y="5950080"/>
            <a:ext cx="712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guitar is _______ of the bedside table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2482920" y="6021360"/>
            <a:ext cx="1368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n fron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1521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523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517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517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50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50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50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50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2:59:00Z</dcterms:created>
  <dc:creator>Sandra</dc:creator>
  <dc:description/>
  <dc:language>en-US</dc:language>
  <cp:lastModifiedBy>Sandra</cp:lastModifiedBy>
  <dcterms:modified xsi:type="dcterms:W3CDTF">2009-11-24T14:12:58Z</dcterms:modified>
  <cp:revision>5</cp:revision>
  <dc:subject/>
  <dc:title>Diapositivo 1</dc:title>
</cp:coreProperties>
</file>